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5338-D98B-43A3-874B-30C981558B3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A34E-8D70-4E6D-BAF0-7B921CE80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AA11-41A5-45D6-9C98-92D0DE7C8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F362-AB27-4DE8-B4B4-D18678C17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075E-D94C-4BB3-8F49-778FB9525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88DA-1295-4269-9085-7214566F3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AC0D-195D-4902-9ECC-DF85A6E04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F4DA-8B5D-41CD-9D8E-6D850DCC6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4C42-13B4-47BC-8FC2-2F2847364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2E7A-0692-4A8F-8F84-63D397400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C64D-1540-4596-9D69-BA7779411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4C24-93F3-4978-95DE-42330E850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025F-D6F2-4977-8EDE-207EB4C64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5F2C-CC0F-4CA3-A309-E9458C5D7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6069-6BE3-402E-B62A-7B613E346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F470-4593-4899-8323-828291635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E7EA-15D2-4029-BA51-AF5C1CCF6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CFB0-6CCD-4BB2-B9E1-214A382D9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E149-7171-47EA-985F-50ADFFC94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8A10-A7AD-49F8-A97A-97CAE683D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7253-1E99-4F0C-91DC-20BDAD389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4E5D-D188-41C4-B650-77B8D6B46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DF8B-AC11-4E44-9AA5-05CDB6496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2026-A8AB-423E-85F6-264AFEADD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6077-1EC6-4FB4-9E5D-E541ADB62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BDAF-B500-4AA3-BAD6-D77381D5E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9048-B283-42C5-8311-E8A8ADFD1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94D1-8E3D-45A6-A050-F2E33B5FC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0057-3A75-485B-876E-22B3450CF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8DE0-2D7A-4BDF-8162-31DCE9F0A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DD91-37E4-4926-9497-1DD6E1C41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F8A8-1D83-4400-9843-C2B8522A8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73F9-4776-4BD0-BF76-4BEF8AA22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B785-5439-4EDC-BDC7-14FCBBC8C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53D0-4B52-40E8-99EF-0F0818028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4456-0226-4265-8143-D0DCE2BDD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89FE-228E-4C50-945A-577E97227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0A70-0516-469D-8E68-F6D9CF249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FA8F-B1BA-4DE5-9DAC-704623C17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DFE4-ADE8-4196-9BF6-9AFE0C673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2D68-DCA5-4E34-863B-7135967D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A978-FD3E-43D7-BC1C-A9EB03E6C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816A-738F-4F42-8F4D-76BFEAB03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D554-5486-4D8C-B549-A885CF66E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CA84-9C55-40F3-98FE-59F5E329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5006-F821-4A8D-A9D8-672C63AA9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6C08-C3B7-43CB-96CE-D18FA6578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A30D-3716-41B7-9F6E-E07272CA9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C591-F018-4E3C-8FEE-044557815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3287-1C96-4931-85A4-751AFAA42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3969-402A-493B-B37F-5613BBB66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1849-E413-4D62-B415-946CE2EC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80FD-C8E2-41D7-8850-044BBFE33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F50A-36CD-42C2-B295-04F34EFE1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85CE-3596-4EC1-934E-2700BBF57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8781-EF89-4A74-A487-B800D4A6A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78EB-1086-42BC-BF2A-813C645FA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51C2-7976-4D03-B244-496BF70D0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7FB1-5566-4338-8B2B-9AF1368F0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6F9A-B387-4CBD-A448-566F4A197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E54D-F51E-462B-B89E-351C197C5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71D2-B0BC-4258-BDFD-07A4020E5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AEEA-4F06-4D75-A173-44D0513D2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A511-690E-45C9-A749-B93224764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D648-396B-4062-8E26-04A1EC091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DABF-3EC6-4B08-9843-0F2F1F3EE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5DBF-C79B-454D-B671-22D2BDB7F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2483-B579-406B-8C24-25C09C061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8AEF-EF9B-491F-A790-F20E48B72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DDF0-D2FE-466B-981A-A501DD199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65ECD-4A67-46C3-9F0E-F7A379433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1B3C-195C-4F7B-AE7E-CDC5DC2F9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A0046-4B8E-4B87-9ACB-1A2A80D92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27E2F6-DE57-40EB-A00F-F78914320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EFD412-BC69-4CE8-99F0-CB06568AA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F45D8-1AEA-48E2-B7C2-0EEC57482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C438CB-A2AE-48E6-BFE2-8DCD42CAD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E05BE-93B5-4708-8F91-D60718D03E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E9DE1C-685B-4293-A6DD-2BB03D705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E25C29-B333-453F-8DD2-0FFBF8FAD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D49C15-8CB6-4A6C-BE87-F892ABDF58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889CE0-B457-4135-A5FE-B0249AE0BA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A6F4A-2998-41C7-993E-35567D847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4FA155-EC0F-4F11-97DE-EB01E99829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26A3BE-9802-41CF-8C0A-A62AC45501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FAF600-028C-48D8-816E-38F28C6325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B8CB3C-5F5E-4C7E-B554-74E0D6C098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145E68-B51F-4D06-A6EA-8205BB12E7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0B516-B10D-44A7-90BE-9227591C03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C3AFD8-30BE-483A-8BC1-31AA99E6D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09198E-9A86-4373-8B26-1A63533BEB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AF9A6C-5F8A-4B0E-8F9B-8BFA3BE70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38B15C-74A3-4134-81F1-7844B27AF6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14796-D632-420A-B848-518CA4AA6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D109AC-B45E-4538-9ED3-B65A8A327C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603FED-93C2-4AD7-BD10-2E18F24CA2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5C4A29-8420-417A-AE0F-7F8996759C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40084F-51C4-4C13-BE7B-38745BFD02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B22CB9-72C6-4228-A27D-6825BF1A7D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34457C-FBAC-4426-91BD-6178BA627E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B878F5-7AF3-492F-8592-684C365E5B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BDE824-5636-44AC-9F69-E9F425FB48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173CB5-F668-4B43-8744-DFC4FFED34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70BA8A-1E77-43E7-9A5E-7B2C37C381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3FFB2-DBB5-4F3E-B051-719A6AAD8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D3E26B-A6A7-4EAD-A290-108D893138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3FAAC4-543D-4F12-9C61-3500974752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72234A-EF1A-42B9-8082-F89A1139DE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F40517-25DB-46F7-BAE0-BF7C0A6517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EC3643-6CEE-4532-AFAD-3A6B1EF6C6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B32F43-E040-4D55-A9BF-9EC0379D2D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6D7A8D-8A05-428D-AF50-A487D5551A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34C764-590C-48C3-BDF7-7AE1322A72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91FFFD-8543-451A-AD28-FFF57A261F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A56E58-A536-4C97-AF4F-AF30FF1504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0CFD-7433-49A9-914A-F9CB60DCC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F650F9-AC3D-4BAD-82DB-617C71CA81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175D5D-FBD6-4AC1-B614-43049739A7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72AB9D-F66B-4856-BDBC-C72A624B8B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CC35DE-B12B-478E-9C83-732C88CA72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B42A0F-F825-448F-B880-FED3FBAAC0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A054D24-BCF5-4C1E-91CF-B626355C778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AE06F36-BB57-4923-BCBB-6609772E54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EBCE030-06C4-4A6D-9865-7262035B5C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8FC4DEA-8944-4378-82C4-35ACA9E374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C1A7F5F-BAD7-44E4-8EDE-C0DBCFFD57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3785D-B688-4A3C-AC74-74A42181F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6BF52AA0-399E-410D-9DCB-BFAE415362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46924DF-9CB1-419C-B8CF-1A13DC12DB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04D48F5-1D04-4FA7-B00A-9D670D6738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7C3575E-616E-42C5-8570-86A33293B2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47B0A60-4CEB-4B92-83DA-24B98DC8C6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61F0DD3-33C2-4DEA-8EDF-8BB136412B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82843B3-7A9D-4178-A94A-66E342DE81D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54553-1CC0-4922-AECC-1C31E2370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AAFBA-78DA-4BE8-8D31-F86559AA0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9CAB-D979-4F12-B6F6-5CF0FF6CB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C906E-9DB5-4F3E-8DCA-5DEF1E503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38E8-0BC2-4BD6-8719-DA1CDEDC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EC6BC-DBF7-40EB-817E-2B985DAFD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C026-A172-4AD6-9096-B94D85BF9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76935-6090-4AD4-A26D-307D660C0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1144B-FA11-4898-936F-CE2D59DD6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89D3C-A52F-4522-974D-3B4880008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1E831-60A4-457E-BC73-0581504A5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1258F-7504-42B9-A893-22C3F0F90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D8C82-7470-44C2-AF37-AC6AECDD3A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80DE8-2989-4EE0-948B-34F87DA13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9B699-A50D-4B5E-AC10-EC632A88A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0BB9F-A122-4D0A-85C0-B541299F5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8D204-F3FA-4E2A-9FBD-CAB7B1840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9B6A9-B618-4898-9B38-D1F620E7F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9F149-4CD9-4BFE-8D62-68FB3C935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237DC-D44C-4B3A-B638-47613FA16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9CA9F-1C47-4F01-BE93-F3A57496A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9FF959-E416-4AB9-9D82-E0B03DACCE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78F50-4B29-4BB4-8D8C-804F11DE9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1E85C-AE0D-4EAC-A29C-13480055A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323CA-53F9-4B92-BBA6-D19643738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5EE60-49BF-41B0-8389-F11C8D93C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2CEF-6706-42D3-A0BA-3F9F5E04C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8D0F9-5D96-4A7F-82FD-A4D5C1A50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EEF04-D40A-4412-A1CF-ED7E3B720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B2413-23B7-4631-A5ED-70D4FB287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765B9-7089-4169-A92E-21916C169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27ED1-09CF-4A94-9219-D9307B867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F8412-B5F9-4681-A388-3F96FFC28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77A88-863C-4173-A71E-A1F2E3527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C4917-A95A-43EA-9089-7D354AFC1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451D9-FE8C-4CB6-8C43-221BA63B33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943BE3-DC10-418E-86B7-E18F37A07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495E-0C16-4FF3-B83D-90FDA731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4A5B3-6A14-46C5-B97E-2313BC9EA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EA3972-2899-4BFA-8CFA-4480775C6A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0E11F3-A966-4B17-ABE1-6F8715804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8FEF4-8D50-455E-A39C-6E648C2C2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F45B14-719E-4F32-9319-0F18E1C7D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14BDE-3B70-41D2-BB3A-D06F6B374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8ABCC-EF16-4154-AF34-4974ED196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17238-C1C2-4FA8-8077-7E96DAF15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BC7FF-4F9B-4F13-9B13-2B3DE3F26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34DCCE-C098-4603-988A-BFE48B333F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40ED-6043-4CD6-8031-925B3297A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7B2AE-8ACD-43FB-9AAB-A11BA83CE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BDB455-1D29-4DA7-88E6-CB61B7BE38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4FDD4-54EA-405F-AE40-4CCA8E319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07C6FE-9387-4BA1-B206-22509FEC69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2AADE-CD77-4A74-9AF4-2AF87CC869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C5353-A326-4BD4-8B35-43328947B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8E0888-19CC-4575-8FC2-62EF47DBA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A8743-3D7B-451C-A246-A38CCAC18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74D0B-E9C7-4E13-B89D-283E51932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44A1F-0BB6-4C88-9C8F-4930B1330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5569D-990C-434F-9020-F212D2EDB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EBED8-9A2B-4D2E-97B9-152B8AFD56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9295D-00A1-4513-9371-A57E772325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462BD3-5FD2-4C15-8304-BB3C9D82A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E64CFD-52E4-48F3-A379-611012B5B3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1853B0-D7F7-4026-AB55-93A87ECE3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58261-87BC-4C42-87B3-B599C79CC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5B6A3D-3E7F-4070-82FA-B4E9771A2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65199-8497-46D0-8C99-A4FBEE7BFF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0DC33-CB0B-415B-9795-2A68BFB43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DE724-9E68-443A-B681-26E1D582F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DE25-4E85-4C36-9059-F1873DE5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6757B-A4A9-4187-8E72-55BD9202E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672A5-526A-4212-84D0-8D0C6F40D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DF418-5E2C-4FA0-BF64-7CEA76DDC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917A5-CABE-4742-8E52-1F46A602FD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AF878-25FF-4FFF-97E9-F27F0C7AB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B8C733-B104-4916-A1EB-B6C169EB17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495E2-21F0-4317-BAC7-C4BF9F295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C98267-9DA4-43CB-B9BE-579E0164F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7917ED-CA85-4D16-B739-709C6C02BE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33F91-D634-4D24-B312-426AA932EB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6F6A-ED47-476E-AFBC-48133E429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B004D-D0F3-46B2-ADD4-ADB8EBC6A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C9CE3-7B9F-4ED1-A35A-E1FF6A7D9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6C74DC-2748-4618-B177-F74A638A8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BD8C3-3FBE-4773-854C-86001C627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F1B23-7245-4A8A-B36B-928D85114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7BBBC9-7BC0-466E-9AC8-389BA79796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D7A3BE-5FB7-4778-A25F-30E0A08E8C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5D7C69-2D79-4D01-997C-D012FD0385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C581B-3AB6-4536-946D-B13975A614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E1B74-5770-40D9-8B3D-586F0A427B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CE2B-B568-48ED-B92A-04407482D1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4141-6F48-4D9D-BBD8-47AFEE97BFC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9397-0A66-46A0-8EFC-73251DD8D9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3C08-7897-4222-9555-AB1A480E9F5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301C-8419-41F1-BCC5-A3BFF2E0A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BEB0-A8C1-4FFF-A865-F4D3F19F9FD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BB82-1DC2-43C2-9483-F26780D94D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0D77-663D-401B-9973-8FE98725E27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E524-11E9-4E5F-B524-D1D49A96A1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375C-C334-4B64-836F-0A99FFFBE70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DE8D-62CA-4D80-A1D8-20BD136E23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01AC-B166-4148-AE94-9C8C1354B53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14E6-9179-4D8F-BC5C-E4969B91383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125000"/>
            <a:ext cx="7812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26560" y="1125360"/>
            <a:ext cx="799308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981000"/>
            <a:ext cx="864216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80720" y="1392120"/>
            <a:ext cx="8783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50920" y="1052640"/>
            <a:ext cx="8640720" cy="46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611280" y="1989000"/>
            <a:ext cx="827712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2800"/>
            </a:br>
            <a:br>
              <a:rPr sz="20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69" name="Picture 9" descr=""/>
          <p:cNvPicPr/>
          <p:nvPr/>
        </p:nvPicPr>
        <p:blipFill>
          <a:blip r:embed="rId1"/>
          <a:stretch/>
        </p:blipFill>
        <p:spPr>
          <a:xfrm>
            <a:off x="0" y="0"/>
            <a:ext cx="9144000" cy="1368360"/>
          </a:xfrm>
          <a:prstGeom prst="rect">
            <a:avLst/>
          </a:prstGeom>
          <a:ln w="0">
            <a:noFill/>
          </a:ln>
        </p:spPr>
      </p:pic>
      <p:pic>
        <p:nvPicPr>
          <p:cNvPr id="1170" name="Picture 10" descr=""/>
          <p:cNvPicPr/>
          <p:nvPr/>
        </p:nvPicPr>
        <p:blipFill>
          <a:blip r:embed="rId2"/>
          <a:stretch/>
        </p:blipFill>
        <p:spPr>
          <a:xfrm>
            <a:off x="1258920" y="2060640"/>
            <a:ext cx="1297080" cy="1528560"/>
          </a:xfrm>
          <a:prstGeom prst="rect">
            <a:avLst/>
          </a:prstGeom>
          <a:ln w="0">
            <a:noFill/>
          </a:ln>
        </p:spPr>
      </p:pic>
      <p:pic>
        <p:nvPicPr>
          <p:cNvPr id="1171" name="12 - Εικόνα" descr=""/>
          <p:cNvPicPr/>
          <p:nvPr/>
        </p:nvPicPr>
        <p:blipFill>
          <a:blip r:embed="rId3"/>
          <a:stretch/>
        </p:blipFill>
        <p:spPr>
          <a:xfrm>
            <a:off x="6948360" y="1989000"/>
            <a:ext cx="1444680" cy="1573200"/>
          </a:xfrm>
          <a:prstGeom prst="rect">
            <a:avLst/>
          </a:prstGeom>
          <a:ln w="0">
            <a:noFill/>
          </a:ln>
        </p:spPr>
      </p:pic>
      <p:sp>
        <p:nvSpPr>
          <p:cNvPr id="117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7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7:51:08Z</dcterms:modified>
  <cp:revision>171</cp:revision>
  <dc:subject/>
  <dc:title>Παρουσίαση του PowerPoint</dc:title>
</cp:coreProperties>
</file>